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E89-EB3F-4EF4-8B6D-E87F0693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936-6CDC-4145-ADB3-C172EE01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FB4E-0C3D-4047-8909-AF422ADE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1362-BF83-417A-B92A-2C3FA694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002-A209-4143-83DB-63E8CB7C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E57-207A-468B-AFE7-008FC2B5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8A6-52AC-4233-9A67-274EACD8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0885-1BDC-4877-B6D0-68CAEBEB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C41B-C52A-4B4E-A25D-D8AE5FB5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6B7A-5B25-49B6-A902-60DFA304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236-6C24-44C0-BDF6-69FB94AA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3EC-27D5-4553-8F21-C83DCD15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C49B-E641-4075-BCC4-2FFF83031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/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3</cp:lastModifiedBy>
  <dcterms:modified xsi:type="dcterms:W3CDTF">2012-06-19T11:25:51Z</dcterms:modified>
  <cp:revision>32</cp:revision>
  <dc:subject/>
  <dc:title>CREŞTEREA ŞI DEZVOLTAREA ECONOMIC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